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0CBA-5DE7-4D46-ADA2-11BB2F736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3577-E5A3-4014-AE6B-54539A08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8764-E2AC-42CC-B17D-52C612C78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E7E2-E7A3-4C94-BFF1-443713B1A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BE43-8FF3-47DC-A241-173E04F9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7F55-D10B-42A1-896E-45A513B5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5A86-042C-45B2-9951-79017816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3D24-5D89-4185-B205-8D40EEE9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1418-12AE-40C1-A8A5-6B74E08B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5668-EB73-4E7F-AD3D-DA51FD2A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535E-7FA0-4FAC-A5CE-6DBFBBC7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51A9-9BB1-4F8E-BD97-893886BA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03BC-C6DB-4304-846D-D39CC5D80056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Anneme çiçek yaptırdım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Adam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televizyonu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onarmış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İki saat çalıştı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Kimde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unuttum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kalbimi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Sarı lalaler aldım sana pazardan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Korku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yaşatıyoruz çocuklara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Biletçi avaz avaz bağırıyor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Patronun yanına gitti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Kooperatife girdim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Film izlemeye gittik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Ailesi onu sever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Ablası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programda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yarışacak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6:48:22Z</dcterms:created>
  <dc:creator>İBRAHİM</dc:creator>
  <dc:description/>
  <dc:language>en-US</dc:language>
  <cp:lastModifiedBy>İBRAHİM</cp:lastModifiedBy>
  <dcterms:modified xsi:type="dcterms:W3CDTF">2018-10-18T20:54:04Z</dcterms:modified>
  <cp:revision>95</cp:revision>
  <dc:subject/>
  <dc:title>KONU 1</dc:title>
</cp:coreProperties>
</file>